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A71D-775B-4985-985D-450399BB3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A2F0-50A1-43F1-9072-73A2CFAB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F8F6-AAA4-468E-8A62-2998C37AE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AA11-03B3-4300-8AD4-51D8949A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A95F-0457-4A2F-BF75-C3E92683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ACD3-BA9D-4B14-9686-A7EB29BD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4E8C-7BE1-43D2-A0AC-94AE715F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FE96-9F05-46A3-AE6B-7EC26E1F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1E7E-4DFA-48F5-9D1A-A17AEF05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187A-7662-4BD6-A6F8-D184F93B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9213-4E6B-4667-929D-5914B143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49FF-47DC-43F2-ABA3-E00A4EF6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FD23-61DC-4FAE-91E6-9B378BDE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BAF9-2937-4FCF-A09A-5C2AAAEB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C7F2-FE95-4063-A570-DD596433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BC02-C40F-43EA-8BC0-2EBBC8498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CE4F-1A41-4AB5-AFE5-EBFF62E36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25C9-B4F9-4009-9BBD-446B4617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87F4-D08B-46A0-A918-31FA9C9F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F552-1855-4E16-8E91-A3DAD48A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C7A2-E340-42B2-A96B-1066C478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9B29-4B6B-4EB7-90CE-DE0B631D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5D2A-A264-4FDD-A88D-2A2C56E3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5257-C7D6-4522-892D-5756B400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6A62-A9C1-45A1-875F-52D95D959D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DAFE-6C20-46BD-9378-88A9E356B3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GCSE Revision Lesson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2106720" cy="1984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140360" y="1413000"/>
            <a:ext cx="2282760" cy="2201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050920" y="1413000"/>
            <a:ext cx="2305080" cy="2154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588000" y="1484280"/>
            <a:ext cx="2232000" cy="2106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6407280" y="3645000"/>
            <a:ext cx="2736720" cy="1652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0" y="3429000"/>
            <a:ext cx="3019320" cy="1673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0" y="5000760"/>
            <a:ext cx="3311640" cy="1857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64000" y="3860640"/>
            <a:ext cx="2735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iangles in a semi circle are right ang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1484280"/>
            <a:ext cx="1871640" cy="1944720"/>
          </a:xfrm>
          <a:prstGeom prst="rect">
            <a:avLst/>
          </a:prstGeom>
          <a:noFill/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64000" y="3860640"/>
            <a:ext cx="273528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ngle subtended by an arc at the centre is twice that subtended on the circum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64000" y="3860640"/>
            <a:ext cx="273528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gles subtended by the same arc are equal at any point on the circum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64000" y="3860640"/>
            <a:ext cx="27352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posite angles in a cyclic quadrilateral add up to 18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64000" y="3860640"/>
            <a:ext cx="2735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ngents from the same point to a circle are eq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64000" y="3860640"/>
            <a:ext cx="2735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ngle made by a tangent and a radius is 9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1484280"/>
            <a:ext cx="1872000" cy="1944720"/>
          </a:xfrm>
          <a:prstGeom prst="rect">
            <a:avLst/>
          </a:prstGeom>
          <a:noFill/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56000" y="1484280"/>
            <a:ext cx="1871640" cy="1944720"/>
          </a:xfrm>
          <a:prstGeom prst="rect">
            <a:avLst/>
          </a:prstGeom>
          <a:noFill/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59640" y="1484280"/>
            <a:ext cx="2089080" cy="2089080"/>
          </a:xfrm>
          <a:prstGeom prst="rect">
            <a:avLst/>
          </a:prstGeom>
          <a:noFill/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500280"/>
            <a:ext cx="3059280" cy="1584360"/>
          </a:xfrm>
          <a:prstGeom prst="rect">
            <a:avLst/>
          </a:prstGeom>
          <a:noFill/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43640" y="3645000"/>
            <a:ext cx="2700360" cy="1584360"/>
          </a:xfrm>
          <a:prstGeom prst="rect">
            <a:avLst/>
          </a:prstGeom>
          <a:noFill/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280360" cy="65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24720" cy="6788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724800" y="1839960"/>
            <a:ext cx="339480" cy="268200"/>
          </a:xfrm>
          <a:custGeom>
            <a:avLst/>
            <a:gdLst/>
            <a:ahLst/>
            <a:rect l="l" t="t" r="r" b="b"/>
            <a:pathLst>
              <a:path w="944" h="745">
                <a:moveTo>
                  <a:pt x="18728" y="5184"/>
                </a:moveTo>
                <a:cubicBezTo>
                  <a:pt x="18703" y="5209"/>
                  <a:pt x="18695" y="5217"/>
                  <a:pt x="18678" y="5234"/>
                </a:cubicBezTo>
                <a:cubicBezTo>
                  <a:pt x="18690" y="5187"/>
                  <a:pt x="18724" y="5150"/>
                  <a:pt x="18777" y="5135"/>
                </a:cubicBezTo>
                <a:cubicBezTo>
                  <a:pt x="18818" y="5127"/>
                  <a:pt x="18860" y="5118"/>
                  <a:pt x="18901" y="5110"/>
                </a:cubicBezTo>
                <a:cubicBezTo>
                  <a:pt x="18977" y="5355"/>
                  <a:pt x="19008" y="5301"/>
                  <a:pt x="18852" y="5432"/>
                </a:cubicBezTo>
                <a:cubicBezTo>
                  <a:pt x="18787" y="5486"/>
                  <a:pt x="18767" y="5495"/>
                  <a:pt x="18802" y="5556"/>
                </a:cubicBezTo>
                <a:cubicBezTo>
                  <a:pt x="18843" y="5628"/>
                  <a:pt x="18914" y="5647"/>
                  <a:pt x="18976" y="5705"/>
                </a:cubicBezTo>
                <a:cubicBezTo>
                  <a:pt x="19014" y="5741"/>
                  <a:pt x="19060" y="5815"/>
                  <a:pt x="19000" y="5854"/>
                </a:cubicBezTo>
                <a:cubicBezTo>
                  <a:pt x="18962" y="5878"/>
                  <a:pt x="18884" y="5844"/>
                  <a:pt x="18852" y="5829"/>
                </a:cubicBezTo>
                <a:cubicBezTo>
                  <a:pt x="18808" y="5807"/>
                  <a:pt x="18796" y="5804"/>
                  <a:pt x="18777" y="5779"/>
                </a:cubicBezTo>
              </a:path>
              <a:path w="944" h="745">
                <a:moveTo>
                  <a:pt x="19323" y="5631"/>
                </a:moveTo>
                <a:cubicBezTo>
                  <a:pt x="19323" y="5574"/>
                  <a:pt x="19317" y="5550"/>
                  <a:pt x="19372" y="5531"/>
                </a:cubicBezTo>
                <a:cubicBezTo>
                  <a:pt x="19409" y="5518"/>
                  <a:pt x="19457" y="5547"/>
                  <a:pt x="19472" y="5581"/>
                </a:cubicBezTo>
                <a:cubicBezTo>
                  <a:pt x="19491" y="5624"/>
                  <a:pt x="19474" y="5699"/>
                  <a:pt x="19447" y="5730"/>
                </a:cubicBezTo>
                <a:cubicBezTo>
                  <a:pt x="19391" y="5794"/>
                  <a:pt x="19350" y="5779"/>
                  <a:pt x="19273" y="5779"/>
                </a:cubicBezTo>
                <a:cubicBezTo>
                  <a:pt x="19265" y="5779"/>
                  <a:pt x="19256" y="5779"/>
                  <a:pt x="19248" y="5779"/>
                </a:cubicBezTo>
              </a:path>
              <a:path w="944" h="745">
                <a:moveTo>
                  <a:pt x="19447" y="5631"/>
                </a:moveTo>
                <a:cubicBezTo>
                  <a:pt x="19500" y="5599"/>
                  <a:pt x="19566" y="5546"/>
                  <a:pt x="19521" y="5606"/>
                </a:cubicBezTo>
                <a:cubicBezTo>
                  <a:pt x="19492" y="5645"/>
                  <a:pt x="19479" y="5731"/>
                  <a:pt x="19546" y="5755"/>
                </a:cubicBezTo>
                <a:cubicBezTo>
                  <a:pt x="19588" y="5755"/>
                  <a:pt x="19596" y="5755"/>
                  <a:pt x="19621" y="57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70840" y="2000160"/>
            <a:ext cx="108000" cy="98640"/>
          </a:xfrm>
          <a:custGeom>
            <a:avLst/>
            <a:gdLst/>
            <a:ahLst/>
            <a:rect l="l" t="t" r="r" b="b"/>
            <a:pathLst>
              <a:path w="299" h="274">
                <a:moveTo>
                  <a:pt x="20141" y="5680"/>
                </a:moveTo>
                <a:cubicBezTo>
                  <a:pt x="20166" y="5680"/>
                  <a:pt x="20191" y="5680"/>
                  <a:pt x="20216" y="5680"/>
                </a:cubicBezTo>
                <a:cubicBezTo>
                  <a:pt x="20141" y="5680"/>
                  <a:pt x="20086" y="5667"/>
                  <a:pt x="20017" y="5655"/>
                </a:cubicBezTo>
                <a:cubicBezTo>
                  <a:pt x="19968" y="5655"/>
                  <a:pt x="19951" y="5655"/>
                  <a:pt x="19918" y="5655"/>
                </a:cubicBezTo>
              </a:path>
              <a:path w="299" h="274">
                <a:moveTo>
                  <a:pt x="19943" y="5581"/>
                </a:moveTo>
                <a:cubicBezTo>
                  <a:pt x="20015" y="5560"/>
                  <a:pt x="20038" y="5569"/>
                  <a:pt x="20042" y="5655"/>
                </a:cubicBezTo>
                <a:cubicBezTo>
                  <a:pt x="20045" y="5713"/>
                  <a:pt x="20042" y="5771"/>
                  <a:pt x="20042" y="58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85040" y="1874880"/>
            <a:ext cx="330120" cy="214200"/>
          </a:xfrm>
          <a:custGeom>
            <a:avLst/>
            <a:gdLst/>
            <a:ahLst/>
            <a:rect l="l" t="t" r="r" b="b"/>
            <a:pathLst>
              <a:path w="919" h="596">
                <a:moveTo>
                  <a:pt x="20762" y="5283"/>
                </a:moveTo>
                <a:cubicBezTo>
                  <a:pt x="20814" y="5261"/>
                  <a:pt x="20824" y="5270"/>
                  <a:pt x="20836" y="5234"/>
                </a:cubicBezTo>
                <a:cubicBezTo>
                  <a:pt x="20745" y="5211"/>
                  <a:pt x="20751" y="5219"/>
                  <a:pt x="20662" y="5259"/>
                </a:cubicBezTo>
                <a:cubicBezTo>
                  <a:pt x="20555" y="5308"/>
                  <a:pt x="20520" y="5332"/>
                  <a:pt x="20513" y="5457"/>
                </a:cubicBezTo>
                <a:cubicBezTo>
                  <a:pt x="20513" y="5502"/>
                  <a:pt x="20509" y="5515"/>
                  <a:pt x="20538" y="5531"/>
                </a:cubicBezTo>
                <a:cubicBezTo>
                  <a:pt x="20603" y="5495"/>
                  <a:pt x="20617" y="5465"/>
                  <a:pt x="20662" y="5407"/>
                </a:cubicBezTo>
                <a:cubicBezTo>
                  <a:pt x="20734" y="5407"/>
                  <a:pt x="20729" y="5486"/>
                  <a:pt x="20737" y="5556"/>
                </a:cubicBezTo>
                <a:cubicBezTo>
                  <a:pt x="20745" y="5632"/>
                  <a:pt x="20744" y="5666"/>
                  <a:pt x="20786" y="5730"/>
                </a:cubicBezTo>
              </a:path>
              <a:path w="919" h="596">
                <a:moveTo>
                  <a:pt x="20910" y="5581"/>
                </a:moveTo>
                <a:cubicBezTo>
                  <a:pt x="20933" y="5546"/>
                  <a:pt x="21002" y="5487"/>
                  <a:pt x="21059" y="5531"/>
                </a:cubicBezTo>
                <a:cubicBezTo>
                  <a:pt x="21102" y="5565"/>
                  <a:pt x="21123" y="5654"/>
                  <a:pt x="21109" y="5705"/>
                </a:cubicBezTo>
                <a:cubicBezTo>
                  <a:pt x="21086" y="5789"/>
                  <a:pt x="21063" y="5804"/>
                  <a:pt x="20985" y="5804"/>
                </a:cubicBezTo>
                <a:cubicBezTo>
                  <a:pt x="20957" y="5804"/>
                  <a:pt x="20946" y="5802"/>
                  <a:pt x="20935" y="5779"/>
                </a:cubicBezTo>
              </a:path>
              <a:path w="919" h="596">
                <a:moveTo>
                  <a:pt x="21183" y="5531"/>
                </a:moveTo>
                <a:cubicBezTo>
                  <a:pt x="21240" y="5494"/>
                  <a:pt x="21243" y="5478"/>
                  <a:pt x="21282" y="5482"/>
                </a:cubicBezTo>
                <a:cubicBezTo>
                  <a:pt x="21268" y="5553"/>
                  <a:pt x="21258" y="5603"/>
                  <a:pt x="21258" y="5680"/>
                </a:cubicBezTo>
                <a:cubicBezTo>
                  <a:pt x="21258" y="5738"/>
                  <a:pt x="21277" y="5820"/>
                  <a:pt x="21357" y="5804"/>
                </a:cubicBezTo>
                <a:cubicBezTo>
                  <a:pt x="21382" y="5796"/>
                  <a:pt x="21406" y="5787"/>
                  <a:pt x="21431" y="5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920000" y="1990800"/>
            <a:ext cx="63360" cy="63360"/>
          </a:xfrm>
          <a:custGeom>
            <a:avLst/>
            <a:gdLst/>
            <a:ahLst/>
            <a:rect l="l" t="t" r="r" b="b"/>
            <a:pathLst>
              <a:path w="174" h="175">
                <a:moveTo>
                  <a:pt x="22175" y="5531"/>
                </a:moveTo>
                <a:cubicBezTo>
                  <a:pt x="22120" y="5531"/>
                  <a:pt x="22104" y="5542"/>
                  <a:pt x="22051" y="5556"/>
                </a:cubicBezTo>
                <a:cubicBezTo>
                  <a:pt x="22043" y="5556"/>
                  <a:pt x="22035" y="5556"/>
                  <a:pt x="22027" y="5556"/>
                </a:cubicBezTo>
              </a:path>
              <a:path w="174" h="175">
                <a:moveTo>
                  <a:pt x="22126" y="5631"/>
                </a:moveTo>
                <a:cubicBezTo>
                  <a:pt x="22155" y="5660"/>
                  <a:pt x="22166" y="5668"/>
                  <a:pt x="22175" y="5705"/>
                </a:cubicBezTo>
                <a:cubicBezTo>
                  <a:pt x="22117" y="5705"/>
                  <a:pt x="22060" y="5705"/>
                  <a:pt x="22002" y="57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126280" y="1812960"/>
            <a:ext cx="500040" cy="258840"/>
          </a:xfrm>
          <a:custGeom>
            <a:avLst/>
            <a:gdLst/>
            <a:ahLst/>
            <a:rect l="l" t="t" r="r" b="b"/>
            <a:pathLst>
              <a:path w="1390" h="721">
                <a:moveTo>
                  <a:pt x="22622" y="5283"/>
                </a:moveTo>
                <a:cubicBezTo>
                  <a:pt x="22622" y="5234"/>
                  <a:pt x="22605" y="5405"/>
                  <a:pt x="22597" y="5432"/>
                </a:cubicBezTo>
                <a:cubicBezTo>
                  <a:pt x="22570" y="5518"/>
                  <a:pt x="22572" y="5591"/>
                  <a:pt x="22572" y="5680"/>
                </a:cubicBezTo>
              </a:path>
              <a:path w="1390" h="721">
                <a:moveTo>
                  <a:pt x="23143" y="5358"/>
                </a:moveTo>
                <a:cubicBezTo>
                  <a:pt x="23188" y="5338"/>
                  <a:pt x="23231" y="5342"/>
                  <a:pt x="23242" y="5308"/>
                </a:cubicBezTo>
                <a:cubicBezTo>
                  <a:pt x="23144" y="5308"/>
                  <a:pt x="23108" y="5311"/>
                  <a:pt x="23019" y="5358"/>
                </a:cubicBezTo>
                <a:cubicBezTo>
                  <a:pt x="22946" y="5396"/>
                  <a:pt x="22902" y="5427"/>
                  <a:pt x="22895" y="5507"/>
                </a:cubicBezTo>
                <a:cubicBezTo>
                  <a:pt x="22892" y="5547"/>
                  <a:pt x="22985" y="5588"/>
                  <a:pt x="23019" y="5606"/>
                </a:cubicBezTo>
                <a:cubicBezTo>
                  <a:pt x="23080" y="5638"/>
                  <a:pt x="23093" y="5615"/>
                  <a:pt x="23093" y="5680"/>
                </a:cubicBezTo>
                <a:cubicBezTo>
                  <a:pt x="23093" y="5742"/>
                  <a:pt x="23034" y="5782"/>
                  <a:pt x="22969" y="5755"/>
                </a:cubicBezTo>
                <a:cubicBezTo>
                  <a:pt x="22905" y="5728"/>
                  <a:pt x="22910" y="5653"/>
                  <a:pt x="22944" y="5606"/>
                </a:cubicBezTo>
                <a:cubicBezTo>
                  <a:pt x="23001" y="5528"/>
                  <a:pt x="23057" y="5478"/>
                  <a:pt x="23143" y="5432"/>
                </a:cubicBezTo>
                <a:cubicBezTo>
                  <a:pt x="23186" y="5410"/>
                  <a:pt x="23197" y="5406"/>
                  <a:pt x="23217" y="5383"/>
                </a:cubicBezTo>
              </a:path>
              <a:path w="1390" h="721">
                <a:moveTo>
                  <a:pt x="23316" y="5432"/>
                </a:moveTo>
                <a:cubicBezTo>
                  <a:pt x="23342" y="5484"/>
                  <a:pt x="23360" y="5385"/>
                  <a:pt x="23391" y="5358"/>
                </a:cubicBezTo>
                <a:cubicBezTo>
                  <a:pt x="23439" y="5317"/>
                  <a:pt x="23564" y="5269"/>
                  <a:pt x="23614" y="5333"/>
                </a:cubicBezTo>
                <a:cubicBezTo>
                  <a:pt x="23670" y="5405"/>
                  <a:pt x="23695" y="5603"/>
                  <a:pt x="23639" y="5680"/>
                </a:cubicBezTo>
                <a:cubicBezTo>
                  <a:pt x="23562" y="5786"/>
                  <a:pt x="23453" y="5626"/>
                  <a:pt x="23416" y="5581"/>
                </a:cubicBezTo>
              </a:path>
              <a:path w="1390" h="721">
                <a:moveTo>
                  <a:pt x="23812" y="5110"/>
                </a:moveTo>
                <a:cubicBezTo>
                  <a:pt x="23844" y="5078"/>
                  <a:pt x="23868" y="5040"/>
                  <a:pt x="23912" y="5035"/>
                </a:cubicBezTo>
                <a:cubicBezTo>
                  <a:pt x="23937" y="5035"/>
                  <a:pt x="23945" y="5035"/>
                  <a:pt x="23961" y="5035"/>
                </a:cubicBezTo>
                <a:cubicBezTo>
                  <a:pt x="23961" y="5068"/>
                  <a:pt x="23974" y="5116"/>
                  <a:pt x="23937" y="5135"/>
                </a:cubicBezTo>
                <a:cubicBezTo>
                  <a:pt x="23922" y="5142"/>
                  <a:pt x="23879" y="5135"/>
                  <a:pt x="23862" y="51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35880" y="2347920"/>
            <a:ext cx="171360" cy="90360"/>
          </a:xfrm>
          <a:custGeom>
            <a:avLst/>
            <a:gdLst/>
            <a:ahLst/>
            <a:rect l="l" t="t" r="r" b="b"/>
            <a:pathLst>
              <a:path w="472" h="249">
                <a:moveTo>
                  <a:pt x="20935" y="6598"/>
                </a:moveTo>
                <a:cubicBezTo>
                  <a:pt x="21006" y="6578"/>
                  <a:pt x="21073" y="6548"/>
                  <a:pt x="21134" y="6598"/>
                </a:cubicBezTo>
                <a:cubicBezTo>
                  <a:pt x="21188" y="6642"/>
                  <a:pt x="21195" y="6690"/>
                  <a:pt x="21158" y="6747"/>
                </a:cubicBezTo>
                <a:cubicBezTo>
                  <a:pt x="21138" y="6778"/>
                  <a:pt x="21066" y="6788"/>
                  <a:pt x="21034" y="6772"/>
                </a:cubicBezTo>
                <a:cubicBezTo>
                  <a:pt x="21026" y="6764"/>
                  <a:pt x="21018" y="6755"/>
                  <a:pt x="21010" y="6747"/>
                </a:cubicBezTo>
              </a:path>
              <a:path w="472" h="249">
                <a:moveTo>
                  <a:pt x="21233" y="6573"/>
                </a:moveTo>
                <a:cubicBezTo>
                  <a:pt x="21271" y="6535"/>
                  <a:pt x="21288" y="6503"/>
                  <a:pt x="21282" y="6548"/>
                </a:cubicBezTo>
                <a:cubicBezTo>
                  <a:pt x="21249" y="6582"/>
                  <a:pt x="21210" y="6616"/>
                  <a:pt x="21233" y="6672"/>
                </a:cubicBezTo>
                <a:cubicBezTo>
                  <a:pt x="21253" y="6720"/>
                  <a:pt x="21365" y="6697"/>
                  <a:pt x="21406" y="66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56720" y="2374920"/>
            <a:ext cx="71280" cy="54000"/>
          </a:xfrm>
          <a:custGeom>
            <a:avLst/>
            <a:gdLst/>
            <a:ahLst/>
            <a:rect l="l" t="t" r="r" b="b"/>
            <a:pathLst>
              <a:path w="199" h="150">
                <a:moveTo>
                  <a:pt x="22250" y="6648"/>
                </a:moveTo>
                <a:cubicBezTo>
                  <a:pt x="22290" y="6628"/>
                  <a:pt x="22306" y="6629"/>
                  <a:pt x="22299" y="6598"/>
                </a:cubicBezTo>
                <a:cubicBezTo>
                  <a:pt x="22246" y="6598"/>
                  <a:pt x="22230" y="6620"/>
                  <a:pt x="22175" y="6623"/>
                </a:cubicBezTo>
                <a:cubicBezTo>
                  <a:pt x="22134" y="6623"/>
                  <a:pt x="22126" y="6623"/>
                  <a:pt x="22101" y="6623"/>
                </a:cubicBezTo>
              </a:path>
              <a:path w="199" h="150">
                <a:moveTo>
                  <a:pt x="22225" y="6697"/>
                </a:moveTo>
                <a:cubicBezTo>
                  <a:pt x="22257" y="6708"/>
                  <a:pt x="22264" y="6715"/>
                  <a:pt x="22275" y="6747"/>
                </a:cubicBezTo>
                <a:cubicBezTo>
                  <a:pt x="22225" y="6747"/>
                  <a:pt x="22176" y="6747"/>
                  <a:pt x="22126" y="6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197920" y="2313000"/>
            <a:ext cx="34920" cy="160200"/>
          </a:xfrm>
          <a:custGeom>
            <a:avLst/>
            <a:gdLst/>
            <a:ahLst/>
            <a:rect l="l" t="t" r="r" b="b"/>
            <a:pathLst>
              <a:path w="100" h="448">
                <a:moveTo>
                  <a:pt x="22845" y="6474"/>
                </a:moveTo>
                <a:cubicBezTo>
                  <a:pt x="22852" y="6452"/>
                  <a:pt x="22894" y="6416"/>
                  <a:pt x="22870" y="6449"/>
                </a:cubicBezTo>
                <a:cubicBezTo>
                  <a:pt x="22817" y="6523"/>
                  <a:pt x="22822" y="6584"/>
                  <a:pt x="22796" y="6672"/>
                </a:cubicBezTo>
                <a:cubicBezTo>
                  <a:pt x="22775" y="6745"/>
                  <a:pt x="22771" y="6796"/>
                  <a:pt x="22771" y="68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31120" y="2241720"/>
            <a:ext cx="258840" cy="223560"/>
          </a:xfrm>
          <a:custGeom>
            <a:avLst/>
            <a:gdLst/>
            <a:ahLst/>
            <a:rect l="l" t="t" r="r" b="b"/>
            <a:pathLst>
              <a:path w="720" h="621">
                <a:moveTo>
                  <a:pt x="23192" y="6474"/>
                </a:moveTo>
                <a:cubicBezTo>
                  <a:pt x="23236" y="6452"/>
                  <a:pt x="23248" y="6449"/>
                  <a:pt x="23267" y="6424"/>
                </a:cubicBezTo>
                <a:cubicBezTo>
                  <a:pt x="23255" y="6472"/>
                  <a:pt x="23219" y="6482"/>
                  <a:pt x="23192" y="6524"/>
                </a:cubicBezTo>
                <a:cubicBezTo>
                  <a:pt x="23168" y="6561"/>
                  <a:pt x="23148" y="6618"/>
                  <a:pt x="23192" y="6648"/>
                </a:cubicBezTo>
                <a:cubicBezTo>
                  <a:pt x="23247" y="6685"/>
                  <a:pt x="23313" y="6687"/>
                  <a:pt x="23366" y="6722"/>
                </a:cubicBezTo>
                <a:cubicBezTo>
                  <a:pt x="23392" y="6740"/>
                  <a:pt x="23437" y="6784"/>
                  <a:pt x="23416" y="6821"/>
                </a:cubicBezTo>
                <a:cubicBezTo>
                  <a:pt x="23391" y="6867"/>
                  <a:pt x="23309" y="6846"/>
                  <a:pt x="23267" y="6846"/>
                </a:cubicBezTo>
                <a:cubicBezTo>
                  <a:pt x="23209" y="6846"/>
                  <a:pt x="23189" y="6849"/>
                  <a:pt x="23143" y="6821"/>
                </a:cubicBezTo>
              </a:path>
              <a:path w="720" h="621">
                <a:moveTo>
                  <a:pt x="23465" y="6548"/>
                </a:moveTo>
                <a:cubicBezTo>
                  <a:pt x="23505" y="6496"/>
                  <a:pt x="23550" y="6457"/>
                  <a:pt x="23564" y="6400"/>
                </a:cubicBezTo>
                <a:cubicBezTo>
                  <a:pt x="23512" y="6400"/>
                  <a:pt x="23490" y="6415"/>
                  <a:pt x="23440" y="6424"/>
                </a:cubicBezTo>
                <a:cubicBezTo>
                  <a:pt x="23391" y="6424"/>
                  <a:pt x="23374" y="6424"/>
                  <a:pt x="23341" y="6424"/>
                </a:cubicBezTo>
              </a:path>
              <a:path w="720" h="621">
                <a:moveTo>
                  <a:pt x="23713" y="6276"/>
                </a:moveTo>
                <a:cubicBezTo>
                  <a:pt x="23751" y="6238"/>
                  <a:pt x="23759" y="6226"/>
                  <a:pt x="23812" y="6226"/>
                </a:cubicBezTo>
                <a:cubicBezTo>
                  <a:pt x="23837" y="6226"/>
                  <a:pt x="23845" y="6226"/>
                  <a:pt x="23862" y="6226"/>
                </a:cubicBezTo>
                <a:cubicBezTo>
                  <a:pt x="23862" y="6267"/>
                  <a:pt x="23879" y="6320"/>
                  <a:pt x="23837" y="6325"/>
                </a:cubicBezTo>
                <a:cubicBezTo>
                  <a:pt x="23790" y="6331"/>
                  <a:pt x="23774" y="6322"/>
                  <a:pt x="23738" y="63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52960" y="4259160"/>
            <a:ext cx="938160" cy="777960"/>
          </a:xfrm>
          <a:custGeom>
            <a:avLst/>
            <a:gdLst/>
            <a:ahLst/>
            <a:rect l="l" t="t" r="r" b="b"/>
            <a:pathLst>
              <a:path w="2606" h="2159">
                <a:moveTo>
                  <a:pt x="14139" y="11832"/>
                </a:moveTo>
                <a:cubicBezTo>
                  <a:pt x="14067" y="11839"/>
                  <a:pt x="14033" y="11854"/>
                  <a:pt x="13965" y="11881"/>
                </a:cubicBezTo>
                <a:cubicBezTo>
                  <a:pt x="13824" y="11936"/>
                  <a:pt x="13684" y="11998"/>
                  <a:pt x="13543" y="12055"/>
                </a:cubicBezTo>
                <a:cubicBezTo>
                  <a:pt x="13388" y="12117"/>
                  <a:pt x="13225" y="12167"/>
                  <a:pt x="13072" y="12229"/>
                </a:cubicBezTo>
                <a:cubicBezTo>
                  <a:pt x="12980" y="12266"/>
                  <a:pt x="12901" y="12320"/>
                  <a:pt x="12824" y="12378"/>
                </a:cubicBezTo>
                <a:cubicBezTo>
                  <a:pt x="12799" y="12378"/>
                  <a:pt x="12791" y="12378"/>
                  <a:pt x="12799" y="12402"/>
                </a:cubicBezTo>
              </a:path>
              <a:path w="2606" h="2159">
                <a:moveTo>
                  <a:pt x="11534" y="13568"/>
                </a:moveTo>
                <a:cubicBezTo>
                  <a:pt x="11534" y="13680"/>
                  <a:pt x="11542" y="13785"/>
                  <a:pt x="11559" y="13891"/>
                </a:cubicBezTo>
                <a:cubicBezTo>
                  <a:pt x="11559" y="13940"/>
                  <a:pt x="11559" y="13957"/>
                  <a:pt x="11559" y="13990"/>
                </a:cubicBezTo>
              </a:path>
              <a:path w="2606" h="2159">
                <a:moveTo>
                  <a:pt x="11807" y="13593"/>
                </a:moveTo>
                <a:cubicBezTo>
                  <a:pt x="11807" y="13541"/>
                  <a:pt x="11812" y="13544"/>
                  <a:pt x="11857" y="13519"/>
                </a:cubicBezTo>
                <a:cubicBezTo>
                  <a:pt x="11918" y="13484"/>
                  <a:pt x="11934" y="13469"/>
                  <a:pt x="12005" y="13469"/>
                </a:cubicBezTo>
                <a:cubicBezTo>
                  <a:pt x="12057" y="13469"/>
                  <a:pt x="12069" y="13522"/>
                  <a:pt x="12055" y="13568"/>
                </a:cubicBezTo>
                <a:cubicBezTo>
                  <a:pt x="12038" y="13625"/>
                  <a:pt x="11977" y="13665"/>
                  <a:pt x="11956" y="13717"/>
                </a:cubicBezTo>
                <a:cubicBezTo>
                  <a:pt x="11945" y="13744"/>
                  <a:pt x="12007" y="13806"/>
                  <a:pt x="12030" y="13816"/>
                </a:cubicBezTo>
                <a:cubicBezTo>
                  <a:pt x="12069" y="13833"/>
                  <a:pt x="12099" y="13840"/>
                  <a:pt x="12105" y="13891"/>
                </a:cubicBezTo>
                <a:cubicBezTo>
                  <a:pt x="12105" y="13915"/>
                  <a:pt x="12105" y="13924"/>
                  <a:pt x="12105" y="13940"/>
                </a:cubicBezTo>
                <a:cubicBezTo>
                  <a:pt x="12059" y="13940"/>
                  <a:pt x="12046" y="13960"/>
                  <a:pt x="12005" y="13965"/>
                </a:cubicBezTo>
                <a:cubicBezTo>
                  <a:pt x="11997" y="13965"/>
                  <a:pt x="11989" y="13965"/>
                  <a:pt x="11981" y="13965"/>
                </a:cubicBezTo>
              </a:path>
              <a:path w="2606" h="2159">
                <a:moveTo>
                  <a:pt x="12328" y="13519"/>
                </a:moveTo>
                <a:cubicBezTo>
                  <a:pt x="12328" y="13461"/>
                  <a:pt x="12314" y="13552"/>
                  <a:pt x="12303" y="13568"/>
                </a:cubicBezTo>
                <a:cubicBezTo>
                  <a:pt x="12279" y="13604"/>
                  <a:pt x="12263" y="13669"/>
                  <a:pt x="12328" y="13692"/>
                </a:cubicBezTo>
                <a:cubicBezTo>
                  <a:pt x="12386" y="13712"/>
                  <a:pt x="12465" y="13728"/>
                  <a:pt x="12526" y="13742"/>
                </a:cubicBezTo>
                <a:cubicBezTo>
                  <a:pt x="12566" y="13751"/>
                  <a:pt x="12598" y="13770"/>
                  <a:pt x="12601" y="13816"/>
                </a:cubicBezTo>
                <a:cubicBezTo>
                  <a:pt x="12606" y="13889"/>
                  <a:pt x="12600" y="13897"/>
                  <a:pt x="12526" y="13915"/>
                </a:cubicBezTo>
                <a:cubicBezTo>
                  <a:pt x="12461" y="13931"/>
                  <a:pt x="12371" y="13915"/>
                  <a:pt x="12303" y="13915"/>
                </a:cubicBezTo>
              </a:path>
              <a:path w="2606" h="2159">
                <a:moveTo>
                  <a:pt x="12626" y="13395"/>
                </a:moveTo>
                <a:cubicBezTo>
                  <a:pt x="12587" y="13356"/>
                  <a:pt x="12585" y="13339"/>
                  <a:pt x="12551" y="13345"/>
                </a:cubicBezTo>
                <a:cubicBezTo>
                  <a:pt x="12498" y="13388"/>
                  <a:pt x="12466" y="13410"/>
                  <a:pt x="12402" y="13419"/>
                </a:cubicBezTo>
              </a:path>
              <a:path w="2606" h="2159">
                <a:moveTo>
                  <a:pt x="12799" y="13295"/>
                </a:moveTo>
                <a:cubicBezTo>
                  <a:pt x="12799" y="13255"/>
                  <a:pt x="12805" y="13215"/>
                  <a:pt x="12849" y="13196"/>
                </a:cubicBezTo>
                <a:cubicBezTo>
                  <a:pt x="12897" y="13175"/>
                  <a:pt x="12925" y="13157"/>
                  <a:pt x="12973" y="13196"/>
                </a:cubicBezTo>
                <a:cubicBezTo>
                  <a:pt x="13019" y="13233"/>
                  <a:pt x="12998" y="13316"/>
                  <a:pt x="12998" y="13370"/>
                </a:cubicBezTo>
                <a:cubicBezTo>
                  <a:pt x="12942" y="13370"/>
                  <a:pt x="12899" y="13376"/>
                  <a:pt x="12849" y="13345"/>
                </a:cubicBezTo>
                <a:cubicBezTo>
                  <a:pt x="12824" y="13320"/>
                  <a:pt x="12816" y="13312"/>
                  <a:pt x="12799" y="132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62640" y="1276200"/>
            <a:ext cx="965160" cy="430200"/>
          </a:xfrm>
          <a:custGeom>
            <a:avLst/>
            <a:gdLst/>
            <a:ahLst/>
            <a:rect l="l" t="t" r="r" b="b"/>
            <a:pathLst>
              <a:path w="2680" h="1192">
                <a:moveTo>
                  <a:pt x="12675" y="4738"/>
                </a:moveTo>
                <a:cubicBezTo>
                  <a:pt x="12733" y="4738"/>
                  <a:pt x="12770" y="4739"/>
                  <a:pt x="12824" y="4713"/>
                </a:cubicBezTo>
                <a:cubicBezTo>
                  <a:pt x="12990" y="4635"/>
                  <a:pt x="13142" y="4541"/>
                  <a:pt x="13295" y="4440"/>
                </a:cubicBezTo>
                <a:cubicBezTo>
                  <a:pt x="13473" y="4323"/>
                  <a:pt x="13663" y="4211"/>
                  <a:pt x="13866" y="4142"/>
                </a:cubicBezTo>
                <a:cubicBezTo>
                  <a:pt x="13956" y="4120"/>
                  <a:pt x="13980" y="4112"/>
                  <a:pt x="14039" y="4118"/>
                </a:cubicBezTo>
              </a:path>
              <a:path w="2680" h="1192">
                <a:moveTo>
                  <a:pt x="14337" y="3696"/>
                </a:moveTo>
                <a:cubicBezTo>
                  <a:pt x="14377" y="3683"/>
                  <a:pt x="14347" y="3684"/>
                  <a:pt x="14387" y="3671"/>
                </a:cubicBezTo>
                <a:cubicBezTo>
                  <a:pt x="14387" y="3731"/>
                  <a:pt x="14371" y="3759"/>
                  <a:pt x="14362" y="3820"/>
                </a:cubicBezTo>
                <a:cubicBezTo>
                  <a:pt x="14353" y="3877"/>
                  <a:pt x="14325" y="3991"/>
                  <a:pt x="14337" y="4043"/>
                </a:cubicBezTo>
                <a:cubicBezTo>
                  <a:pt x="14353" y="4116"/>
                  <a:pt x="14419" y="4137"/>
                  <a:pt x="14486" y="4118"/>
                </a:cubicBezTo>
                <a:cubicBezTo>
                  <a:pt x="14555" y="4099"/>
                  <a:pt x="14615" y="4059"/>
                  <a:pt x="14684" y="4043"/>
                </a:cubicBezTo>
                <a:cubicBezTo>
                  <a:pt x="14706" y="4038"/>
                  <a:pt x="14737" y="4043"/>
                  <a:pt x="14759" y="4043"/>
                </a:cubicBezTo>
              </a:path>
              <a:path w="2680" h="1192">
                <a:moveTo>
                  <a:pt x="14536" y="3969"/>
                </a:moveTo>
                <a:cubicBezTo>
                  <a:pt x="14536" y="4046"/>
                  <a:pt x="14570" y="4095"/>
                  <a:pt x="14585" y="4167"/>
                </a:cubicBezTo>
                <a:cubicBezTo>
                  <a:pt x="14585" y="4217"/>
                  <a:pt x="14585" y="4233"/>
                  <a:pt x="14585" y="4266"/>
                </a:cubicBezTo>
              </a:path>
              <a:path w="2680" h="1192">
                <a:moveTo>
                  <a:pt x="14908" y="3770"/>
                </a:moveTo>
                <a:cubicBezTo>
                  <a:pt x="14896" y="3830"/>
                  <a:pt x="14863" y="3859"/>
                  <a:pt x="14858" y="3919"/>
                </a:cubicBezTo>
                <a:cubicBezTo>
                  <a:pt x="14853" y="3979"/>
                  <a:pt x="14913" y="3990"/>
                  <a:pt x="14957" y="3994"/>
                </a:cubicBezTo>
                <a:cubicBezTo>
                  <a:pt x="14977" y="3996"/>
                  <a:pt x="15101" y="4033"/>
                  <a:pt x="15106" y="4043"/>
                </a:cubicBezTo>
                <a:cubicBezTo>
                  <a:pt x="15125" y="4085"/>
                  <a:pt x="15131" y="4143"/>
                  <a:pt x="15131" y="4192"/>
                </a:cubicBezTo>
                <a:cubicBezTo>
                  <a:pt x="15131" y="4255"/>
                  <a:pt x="15079" y="4242"/>
                  <a:pt x="15032" y="4242"/>
                </a:cubicBezTo>
                <a:cubicBezTo>
                  <a:pt x="14982" y="4242"/>
                  <a:pt x="14933" y="4242"/>
                  <a:pt x="14883" y="4242"/>
                </a:cubicBezTo>
              </a:path>
              <a:path w="2680" h="1192">
                <a:moveTo>
                  <a:pt x="15081" y="3770"/>
                </a:moveTo>
                <a:cubicBezTo>
                  <a:pt x="15045" y="3779"/>
                  <a:pt x="14992" y="3797"/>
                  <a:pt x="14957" y="3820"/>
                </a:cubicBezTo>
                <a:cubicBezTo>
                  <a:pt x="14935" y="3842"/>
                  <a:pt x="14930" y="3851"/>
                  <a:pt x="14908" y="3845"/>
                </a:cubicBezTo>
              </a:path>
              <a:path w="2680" h="1192">
                <a:moveTo>
                  <a:pt x="15255" y="3696"/>
                </a:moveTo>
                <a:cubicBezTo>
                  <a:pt x="15245" y="3657"/>
                  <a:pt x="15230" y="3641"/>
                  <a:pt x="15230" y="3597"/>
                </a:cubicBezTo>
                <a:cubicBezTo>
                  <a:pt x="15230" y="3545"/>
                  <a:pt x="15262" y="3547"/>
                  <a:pt x="15304" y="3547"/>
                </a:cubicBezTo>
                <a:cubicBezTo>
                  <a:pt x="15349" y="3547"/>
                  <a:pt x="15352" y="3629"/>
                  <a:pt x="15354" y="3671"/>
                </a:cubicBezTo>
                <a:cubicBezTo>
                  <a:pt x="15356" y="3700"/>
                  <a:pt x="15333" y="3793"/>
                  <a:pt x="15280" y="3770"/>
                </a:cubicBezTo>
                <a:cubicBezTo>
                  <a:pt x="15257" y="3748"/>
                  <a:pt x="15249" y="3743"/>
                  <a:pt x="15255" y="37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87960" y="4179960"/>
            <a:ext cx="509400" cy="660240"/>
          </a:xfrm>
          <a:custGeom>
            <a:avLst/>
            <a:gdLst/>
            <a:ahLst/>
            <a:rect l="l" t="t" r="r" b="b"/>
            <a:pathLst>
              <a:path w="1414" h="1836">
                <a:moveTo>
                  <a:pt x="14957" y="11633"/>
                </a:moveTo>
                <a:cubicBezTo>
                  <a:pt x="14957" y="11625"/>
                  <a:pt x="14957" y="11617"/>
                  <a:pt x="14957" y="11609"/>
                </a:cubicBezTo>
                <a:cubicBezTo>
                  <a:pt x="14994" y="11621"/>
                  <a:pt x="14979" y="11633"/>
                  <a:pt x="15032" y="11633"/>
                </a:cubicBezTo>
                <a:cubicBezTo>
                  <a:pt x="15055" y="11633"/>
                  <a:pt x="15119" y="11660"/>
                  <a:pt x="15131" y="11683"/>
                </a:cubicBezTo>
                <a:cubicBezTo>
                  <a:pt x="15131" y="11691"/>
                  <a:pt x="15131" y="11700"/>
                  <a:pt x="15131" y="11708"/>
                </a:cubicBezTo>
                <a:cubicBezTo>
                  <a:pt x="15161" y="11716"/>
                  <a:pt x="15175" y="11725"/>
                  <a:pt x="15205" y="11733"/>
                </a:cubicBezTo>
                <a:cubicBezTo>
                  <a:pt x="15216" y="11766"/>
                  <a:pt x="15241" y="11764"/>
                  <a:pt x="15255" y="11807"/>
                </a:cubicBezTo>
                <a:cubicBezTo>
                  <a:pt x="15267" y="11842"/>
                  <a:pt x="15293" y="11872"/>
                  <a:pt x="15304" y="11906"/>
                </a:cubicBezTo>
                <a:cubicBezTo>
                  <a:pt x="15314" y="11937"/>
                  <a:pt x="15326" y="11976"/>
                  <a:pt x="15329" y="12005"/>
                </a:cubicBezTo>
                <a:cubicBezTo>
                  <a:pt x="15333" y="12037"/>
                  <a:pt x="15329" y="12072"/>
                  <a:pt x="15329" y="12105"/>
                </a:cubicBezTo>
                <a:cubicBezTo>
                  <a:pt x="15306" y="12113"/>
                  <a:pt x="15290" y="12146"/>
                  <a:pt x="15280" y="12179"/>
                </a:cubicBezTo>
                <a:cubicBezTo>
                  <a:pt x="15268" y="12215"/>
                  <a:pt x="15242" y="12244"/>
                  <a:pt x="15230" y="12278"/>
                </a:cubicBezTo>
                <a:cubicBezTo>
                  <a:pt x="15216" y="12321"/>
                  <a:pt x="15174" y="12337"/>
                  <a:pt x="15156" y="12378"/>
                </a:cubicBezTo>
                <a:cubicBezTo>
                  <a:pt x="15156" y="12386"/>
                  <a:pt x="15156" y="12394"/>
                  <a:pt x="15156" y="12402"/>
                </a:cubicBezTo>
                <a:cubicBezTo>
                  <a:pt x="15126" y="12412"/>
                  <a:pt x="15114" y="12423"/>
                  <a:pt x="15081" y="12452"/>
                </a:cubicBezTo>
                <a:cubicBezTo>
                  <a:pt x="15050" y="12480"/>
                  <a:pt x="15045" y="12492"/>
                  <a:pt x="15007" y="12502"/>
                </a:cubicBezTo>
                <a:cubicBezTo>
                  <a:pt x="14997" y="12542"/>
                  <a:pt x="14997" y="12541"/>
                  <a:pt x="14957" y="12551"/>
                </a:cubicBezTo>
                <a:cubicBezTo>
                  <a:pt x="14957" y="12579"/>
                  <a:pt x="14955" y="12590"/>
                  <a:pt x="14932" y="12601"/>
                </a:cubicBezTo>
              </a:path>
              <a:path w="1414" h="1836">
                <a:moveTo>
                  <a:pt x="14684" y="12973"/>
                </a:moveTo>
                <a:cubicBezTo>
                  <a:pt x="14684" y="12906"/>
                  <a:pt x="14663" y="13038"/>
                  <a:pt x="14660" y="13047"/>
                </a:cubicBezTo>
                <a:cubicBezTo>
                  <a:pt x="14636" y="13114"/>
                  <a:pt x="14617" y="13156"/>
                  <a:pt x="14660" y="13221"/>
                </a:cubicBezTo>
                <a:cubicBezTo>
                  <a:pt x="14699" y="13281"/>
                  <a:pt x="14743" y="13271"/>
                  <a:pt x="14808" y="13271"/>
                </a:cubicBezTo>
                <a:cubicBezTo>
                  <a:pt x="14887" y="13271"/>
                  <a:pt x="14941" y="13276"/>
                  <a:pt x="15007" y="13295"/>
                </a:cubicBezTo>
                <a:cubicBezTo>
                  <a:pt x="15053" y="13308"/>
                  <a:pt x="15065" y="13273"/>
                  <a:pt x="15081" y="13320"/>
                </a:cubicBezTo>
              </a:path>
              <a:path w="1414" h="1836">
                <a:moveTo>
                  <a:pt x="14883" y="13171"/>
                </a:moveTo>
                <a:cubicBezTo>
                  <a:pt x="14883" y="13103"/>
                  <a:pt x="14883" y="13256"/>
                  <a:pt x="14883" y="13271"/>
                </a:cubicBezTo>
                <a:cubicBezTo>
                  <a:pt x="14883" y="13334"/>
                  <a:pt x="14858" y="13379"/>
                  <a:pt x="14858" y="13444"/>
                </a:cubicBezTo>
              </a:path>
              <a:path w="1414" h="1836">
                <a:moveTo>
                  <a:pt x="15255" y="13047"/>
                </a:moveTo>
                <a:cubicBezTo>
                  <a:pt x="15271" y="13031"/>
                  <a:pt x="15288" y="13014"/>
                  <a:pt x="15304" y="12998"/>
                </a:cubicBezTo>
                <a:cubicBezTo>
                  <a:pt x="15293" y="13032"/>
                  <a:pt x="15261" y="13022"/>
                  <a:pt x="15255" y="13072"/>
                </a:cubicBezTo>
                <a:cubicBezTo>
                  <a:pt x="15250" y="13116"/>
                  <a:pt x="15265" y="13146"/>
                  <a:pt x="15304" y="13171"/>
                </a:cubicBezTo>
                <a:cubicBezTo>
                  <a:pt x="15343" y="13196"/>
                  <a:pt x="15408" y="13248"/>
                  <a:pt x="15429" y="13295"/>
                </a:cubicBezTo>
                <a:cubicBezTo>
                  <a:pt x="15451" y="13344"/>
                  <a:pt x="15428" y="13390"/>
                  <a:pt x="15379" y="13395"/>
                </a:cubicBezTo>
                <a:cubicBezTo>
                  <a:pt x="15325" y="13401"/>
                  <a:pt x="15294" y="13400"/>
                  <a:pt x="15255" y="13370"/>
                </a:cubicBezTo>
              </a:path>
              <a:path w="1414" h="1836">
                <a:moveTo>
                  <a:pt x="15478" y="12923"/>
                </a:moveTo>
                <a:cubicBezTo>
                  <a:pt x="15486" y="12915"/>
                  <a:pt x="15495" y="12906"/>
                  <a:pt x="15503" y="12898"/>
                </a:cubicBezTo>
                <a:cubicBezTo>
                  <a:pt x="15445" y="12898"/>
                  <a:pt x="15387" y="12898"/>
                  <a:pt x="15329" y="12898"/>
                </a:cubicBezTo>
              </a:path>
              <a:path w="1414" h="1836">
                <a:moveTo>
                  <a:pt x="15677" y="12923"/>
                </a:moveTo>
                <a:cubicBezTo>
                  <a:pt x="15677" y="12878"/>
                  <a:pt x="15671" y="12859"/>
                  <a:pt x="15701" y="12824"/>
                </a:cubicBezTo>
                <a:cubicBezTo>
                  <a:pt x="15735" y="12785"/>
                  <a:pt x="15766" y="12792"/>
                  <a:pt x="15801" y="12824"/>
                </a:cubicBezTo>
                <a:cubicBezTo>
                  <a:pt x="15825" y="12846"/>
                  <a:pt x="15843" y="12915"/>
                  <a:pt x="15825" y="12948"/>
                </a:cubicBezTo>
                <a:cubicBezTo>
                  <a:pt x="15797" y="13000"/>
                  <a:pt x="15761" y="12957"/>
                  <a:pt x="15726" y="12948"/>
                </a:cubicBezTo>
              </a:path>
              <a:path w="1414" h="1836">
                <a:moveTo>
                  <a:pt x="14412" y="12824"/>
                </a:moveTo>
                <a:cubicBezTo>
                  <a:pt x="14445" y="12778"/>
                  <a:pt x="14445" y="12771"/>
                  <a:pt x="14486" y="12725"/>
                </a:cubicBezTo>
                <a:cubicBezTo>
                  <a:pt x="14567" y="12633"/>
                  <a:pt x="14645" y="12530"/>
                  <a:pt x="14709" y="124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30920" y="3884760"/>
            <a:ext cx="428760" cy="322200"/>
          </a:xfrm>
          <a:custGeom>
            <a:avLst/>
            <a:gdLst/>
            <a:ahLst/>
            <a:rect l="l" t="t" r="r" b="b"/>
            <a:pathLst>
              <a:path w="1192" h="894">
                <a:moveTo>
                  <a:pt x="17090" y="11063"/>
                </a:moveTo>
                <a:cubicBezTo>
                  <a:pt x="16900" y="11063"/>
                  <a:pt x="16710" y="11063"/>
                  <a:pt x="16520" y="11063"/>
                </a:cubicBezTo>
                <a:cubicBezTo>
                  <a:pt x="16513" y="11041"/>
                  <a:pt x="16478" y="11024"/>
                  <a:pt x="16446" y="11013"/>
                </a:cubicBezTo>
                <a:cubicBezTo>
                  <a:pt x="16438" y="11013"/>
                  <a:pt x="16429" y="11013"/>
                  <a:pt x="16421" y="11013"/>
                </a:cubicBezTo>
                <a:cubicBezTo>
                  <a:pt x="16409" y="10978"/>
                  <a:pt x="16414" y="10988"/>
                  <a:pt x="16371" y="10988"/>
                </a:cubicBezTo>
                <a:cubicBezTo>
                  <a:pt x="16359" y="10954"/>
                  <a:pt x="16333" y="10961"/>
                  <a:pt x="16321" y="10914"/>
                </a:cubicBezTo>
                <a:cubicBezTo>
                  <a:pt x="16282" y="10901"/>
                  <a:pt x="16311" y="10902"/>
                  <a:pt x="16272" y="10889"/>
                </a:cubicBezTo>
                <a:cubicBezTo>
                  <a:pt x="16259" y="10851"/>
                  <a:pt x="16247" y="10869"/>
                  <a:pt x="16247" y="10815"/>
                </a:cubicBezTo>
                <a:cubicBezTo>
                  <a:pt x="16222" y="10815"/>
                  <a:pt x="16214" y="10815"/>
                  <a:pt x="16222" y="10790"/>
                </a:cubicBezTo>
              </a:path>
              <a:path w="1192" h="894">
                <a:moveTo>
                  <a:pt x="16272" y="11385"/>
                </a:moveTo>
                <a:cubicBezTo>
                  <a:pt x="16264" y="11377"/>
                  <a:pt x="16255" y="11369"/>
                  <a:pt x="16247" y="11361"/>
                </a:cubicBezTo>
                <a:cubicBezTo>
                  <a:pt x="16247" y="11416"/>
                  <a:pt x="16224" y="11454"/>
                  <a:pt x="16222" y="11509"/>
                </a:cubicBezTo>
                <a:cubicBezTo>
                  <a:pt x="16219" y="11575"/>
                  <a:pt x="16197" y="11620"/>
                  <a:pt x="16197" y="11683"/>
                </a:cubicBezTo>
              </a:path>
              <a:path w="1192" h="894">
                <a:moveTo>
                  <a:pt x="16396" y="11311"/>
                </a:moveTo>
                <a:cubicBezTo>
                  <a:pt x="16405" y="11274"/>
                  <a:pt x="16432" y="11249"/>
                  <a:pt x="16470" y="11237"/>
                </a:cubicBezTo>
                <a:cubicBezTo>
                  <a:pt x="16532" y="11217"/>
                  <a:pt x="16513" y="11218"/>
                  <a:pt x="16570" y="11237"/>
                </a:cubicBezTo>
                <a:cubicBezTo>
                  <a:pt x="16641" y="11261"/>
                  <a:pt x="16623" y="11295"/>
                  <a:pt x="16594" y="11361"/>
                </a:cubicBezTo>
                <a:cubicBezTo>
                  <a:pt x="16561" y="11436"/>
                  <a:pt x="16519" y="11475"/>
                  <a:pt x="16470" y="11534"/>
                </a:cubicBezTo>
                <a:cubicBezTo>
                  <a:pt x="16448" y="11557"/>
                  <a:pt x="16440" y="11562"/>
                  <a:pt x="16446" y="11584"/>
                </a:cubicBezTo>
                <a:cubicBezTo>
                  <a:pt x="16489" y="11619"/>
                  <a:pt x="16515" y="11633"/>
                  <a:pt x="16570" y="11633"/>
                </a:cubicBezTo>
                <a:cubicBezTo>
                  <a:pt x="16628" y="11633"/>
                  <a:pt x="16685" y="11633"/>
                  <a:pt x="16743" y="11633"/>
                </a:cubicBezTo>
              </a:path>
              <a:path w="1192" h="894">
                <a:moveTo>
                  <a:pt x="16942" y="11311"/>
                </a:moveTo>
                <a:cubicBezTo>
                  <a:pt x="16910" y="11300"/>
                  <a:pt x="16913" y="11256"/>
                  <a:pt x="16942" y="11237"/>
                </a:cubicBezTo>
                <a:cubicBezTo>
                  <a:pt x="16980" y="11211"/>
                  <a:pt x="17004" y="11205"/>
                  <a:pt x="17041" y="11237"/>
                </a:cubicBezTo>
                <a:cubicBezTo>
                  <a:pt x="17104" y="11292"/>
                  <a:pt x="17090" y="11359"/>
                  <a:pt x="17090" y="11435"/>
                </a:cubicBezTo>
                <a:cubicBezTo>
                  <a:pt x="17090" y="11487"/>
                  <a:pt x="17108" y="11574"/>
                  <a:pt x="17041" y="11584"/>
                </a:cubicBezTo>
                <a:cubicBezTo>
                  <a:pt x="16955" y="11596"/>
                  <a:pt x="16913" y="11539"/>
                  <a:pt x="16867" y="11485"/>
                </a:cubicBezTo>
                <a:cubicBezTo>
                  <a:pt x="16836" y="11448"/>
                  <a:pt x="16792" y="11389"/>
                  <a:pt x="16818" y="11336"/>
                </a:cubicBezTo>
                <a:cubicBezTo>
                  <a:pt x="16852" y="11266"/>
                  <a:pt x="16890" y="11308"/>
                  <a:pt x="16942" y="11286"/>
                </a:cubicBezTo>
                <a:cubicBezTo>
                  <a:pt x="16950" y="11278"/>
                  <a:pt x="16958" y="11269"/>
                  <a:pt x="16966" y="11261"/>
                </a:cubicBezTo>
              </a:path>
              <a:path w="1192" h="894">
                <a:moveTo>
                  <a:pt x="17289" y="11112"/>
                </a:moveTo>
                <a:cubicBezTo>
                  <a:pt x="17266" y="11090"/>
                  <a:pt x="17258" y="11085"/>
                  <a:pt x="17264" y="11063"/>
                </a:cubicBezTo>
                <a:cubicBezTo>
                  <a:pt x="17302" y="11063"/>
                  <a:pt x="17367" y="11047"/>
                  <a:pt x="17388" y="11088"/>
                </a:cubicBezTo>
                <a:cubicBezTo>
                  <a:pt x="17399" y="11109"/>
                  <a:pt x="17373" y="11181"/>
                  <a:pt x="17363" y="11187"/>
                </a:cubicBezTo>
                <a:cubicBezTo>
                  <a:pt x="17333" y="11207"/>
                  <a:pt x="17292" y="11186"/>
                  <a:pt x="17289" y="11162"/>
                </a:cubicBezTo>
                <a:cubicBezTo>
                  <a:pt x="17289" y="11154"/>
                  <a:pt x="17289" y="11145"/>
                  <a:pt x="17289" y="111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11760" y="2705040"/>
            <a:ext cx="482400" cy="1063800"/>
          </a:xfrm>
          <a:custGeom>
            <a:avLst/>
            <a:gdLst/>
            <a:ahLst/>
            <a:rect l="l" t="t" r="r" b="b"/>
            <a:pathLst>
              <a:path w="1341" h="2953">
                <a:moveTo>
                  <a:pt x="11658" y="9773"/>
                </a:moveTo>
                <a:cubicBezTo>
                  <a:pt x="11683" y="9773"/>
                  <a:pt x="11691" y="9773"/>
                  <a:pt x="11683" y="9748"/>
                </a:cubicBezTo>
                <a:cubicBezTo>
                  <a:pt x="11711" y="9786"/>
                  <a:pt x="11708" y="9799"/>
                  <a:pt x="11708" y="9847"/>
                </a:cubicBezTo>
                <a:cubicBezTo>
                  <a:pt x="11708" y="9899"/>
                  <a:pt x="11735" y="10070"/>
                  <a:pt x="11683" y="10096"/>
                </a:cubicBezTo>
                <a:cubicBezTo>
                  <a:pt x="11675" y="10096"/>
                  <a:pt x="11666" y="10096"/>
                  <a:pt x="11658" y="10096"/>
                </a:cubicBezTo>
                <a:cubicBezTo>
                  <a:pt x="11658" y="10141"/>
                  <a:pt x="11637" y="10155"/>
                  <a:pt x="11633" y="10195"/>
                </a:cubicBezTo>
                <a:cubicBezTo>
                  <a:pt x="11633" y="10203"/>
                  <a:pt x="11633" y="10212"/>
                  <a:pt x="11633" y="10220"/>
                </a:cubicBezTo>
                <a:cubicBezTo>
                  <a:pt x="11599" y="10231"/>
                  <a:pt x="11609" y="10227"/>
                  <a:pt x="11609" y="10269"/>
                </a:cubicBezTo>
                <a:cubicBezTo>
                  <a:pt x="11574" y="10281"/>
                  <a:pt x="11584" y="10276"/>
                  <a:pt x="11584" y="10319"/>
                </a:cubicBezTo>
                <a:cubicBezTo>
                  <a:pt x="11544" y="10332"/>
                  <a:pt x="11574" y="10331"/>
                  <a:pt x="11534" y="10344"/>
                </a:cubicBezTo>
                <a:cubicBezTo>
                  <a:pt x="11521" y="10381"/>
                  <a:pt x="11509" y="10365"/>
                  <a:pt x="11509" y="10418"/>
                </a:cubicBezTo>
                <a:cubicBezTo>
                  <a:pt x="11469" y="10428"/>
                  <a:pt x="11446" y="10436"/>
                  <a:pt x="11435" y="10468"/>
                </a:cubicBezTo>
              </a:path>
              <a:path w="1341" h="2953">
                <a:moveTo>
                  <a:pt x="10864" y="9922"/>
                </a:moveTo>
                <a:cubicBezTo>
                  <a:pt x="10864" y="9946"/>
                  <a:pt x="10864" y="9923"/>
                  <a:pt x="10864" y="9947"/>
                </a:cubicBezTo>
                <a:cubicBezTo>
                  <a:pt x="10872" y="9864"/>
                  <a:pt x="10894" y="9808"/>
                  <a:pt x="10914" y="9723"/>
                </a:cubicBezTo>
                <a:cubicBezTo>
                  <a:pt x="10969" y="9486"/>
                  <a:pt x="11072" y="9265"/>
                  <a:pt x="11137" y="9029"/>
                </a:cubicBezTo>
                <a:cubicBezTo>
                  <a:pt x="11180" y="8872"/>
                  <a:pt x="11245" y="8720"/>
                  <a:pt x="11261" y="8558"/>
                </a:cubicBezTo>
              </a:path>
              <a:path w="1341" h="2953">
                <a:moveTo>
                  <a:pt x="11187" y="7863"/>
                </a:moveTo>
                <a:cubicBezTo>
                  <a:pt x="11187" y="7846"/>
                  <a:pt x="11187" y="7830"/>
                  <a:pt x="11187" y="7813"/>
                </a:cubicBezTo>
                <a:cubicBezTo>
                  <a:pt x="11187" y="7950"/>
                  <a:pt x="11191" y="8081"/>
                  <a:pt x="11212" y="8210"/>
                </a:cubicBezTo>
                <a:cubicBezTo>
                  <a:pt x="11212" y="8252"/>
                  <a:pt x="11204" y="8268"/>
                  <a:pt x="11237" y="8260"/>
                </a:cubicBezTo>
              </a:path>
              <a:path w="1341" h="2953">
                <a:moveTo>
                  <a:pt x="11534" y="7863"/>
                </a:moveTo>
                <a:cubicBezTo>
                  <a:pt x="11573" y="7817"/>
                  <a:pt x="11574" y="7800"/>
                  <a:pt x="11609" y="7789"/>
                </a:cubicBezTo>
                <a:cubicBezTo>
                  <a:pt x="11581" y="7796"/>
                  <a:pt x="11519" y="7828"/>
                  <a:pt x="11509" y="7863"/>
                </a:cubicBezTo>
                <a:cubicBezTo>
                  <a:pt x="11499" y="7899"/>
                  <a:pt x="11502" y="7965"/>
                  <a:pt x="11534" y="7987"/>
                </a:cubicBezTo>
                <a:cubicBezTo>
                  <a:pt x="11587" y="8023"/>
                  <a:pt x="11656" y="8013"/>
                  <a:pt x="11708" y="8037"/>
                </a:cubicBezTo>
                <a:cubicBezTo>
                  <a:pt x="11771" y="8066"/>
                  <a:pt x="11802" y="8095"/>
                  <a:pt x="11807" y="8161"/>
                </a:cubicBezTo>
                <a:cubicBezTo>
                  <a:pt x="11811" y="8206"/>
                  <a:pt x="11806" y="8231"/>
                  <a:pt x="11757" y="8235"/>
                </a:cubicBezTo>
                <a:cubicBezTo>
                  <a:pt x="11675" y="8241"/>
                  <a:pt x="11591" y="8235"/>
                  <a:pt x="11509" y="8235"/>
                </a:cubicBezTo>
              </a:path>
              <a:path w="1341" h="2953">
                <a:moveTo>
                  <a:pt x="11832" y="7714"/>
                </a:moveTo>
                <a:cubicBezTo>
                  <a:pt x="11789" y="7650"/>
                  <a:pt x="11787" y="7665"/>
                  <a:pt x="11708" y="7665"/>
                </a:cubicBezTo>
                <a:cubicBezTo>
                  <a:pt x="11643" y="7665"/>
                  <a:pt x="11585" y="7652"/>
                  <a:pt x="11534" y="7689"/>
                </a:cubicBezTo>
              </a:path>
              <a:path w="1341" h="2953">
                <a:moveTo>
                  <a:pt x="12055" y="7665"/>
                </a:moveTo>
                <a:cubicBezTo>
                  <a:pt x="12055" y="7619"/>
                  <a:pt x="12048" y="7600"/>
                  <a:pt x="12080" y="7565"/>
                </a:cubicBezTo>
                <a:cubicBezTo>
                  <a:pt x="12105" y="7538"/>
                  <a:pt x="12125" y="7538"/>
                  <a:pt x="12154" y="7516"/>
                </a:cubicBezTo>
                <a:cubicBezTo>
                  <a:pt x="12185" y="7554"/>
                  <a:pt x="12228" y="7609"/>
                  <a:pt x="12204" y="7665"/>
                </a:cubicBezTo>
                <a:cubicBezTo>
                  <a:pt x="12191" y="7697"/>
                  <a:pt x="12105" y="7699"/>
                  <a:pt x="12080" y="7689"/>
                </a:cubicBezTo>
                <a:cubicBezTo>
                  <a:pt x="12055" y="7665"/>
                  <a:pt x="12046" y="7657"/>
                  <a:pt x="12030" y="76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18160" y="4848120"/>
            <a:ext cx="1206720" cy="366840"/>
          </a:xfrm>
          <a:custGeom>
            <a:avLst/>
            <a:gdLst/>
            <a:ahLst/>
            <a:rect l="l" t="t" r="r" b="b"/>
            <a:pathLst>
              <a:path w="3350" h="1018">
                <a:moveTo>
                  <a:pt x="18951" y="13742"/>
                </a:moveTo>
                <a:cubicBezTo>
                  <a:pt x="18951" y="13734"/>
                  <a:pt x="18951" y="13725"/>
                  <a:pt x="18951" y="13717"/>
                </a:cubicBezTo>
                <a:cubicBezTo>
                  <a:pt x="18911" y="13707"/>
                  <a:pt x="18888" y="13679"/>
                  <a:pt x="18852" y="13667"/>
                </a:cubicBezTo>
                <a:cubicBezTo>
                  <a:pt x="18820" y="13656"/>
                  <a:pt x="18781" y="13653"/>
                  <a:pt x="18752" y="13643"/>
                </a:cubicBezTo>
                <a:cubicBezTo>
                  <a:pt x="18710" y="13629"/>
                  <a:pt x="18690" y="13663"/>
                  <a:pt x="18653" y="13667"/>
                </a:cubicBezTo>
                <a:cubicBezTo>
                  <a:pt x="18611" y="13672"/>
                  <a:pt x="18592" y="13688"/>
                  <a:pt x="18554" y="13692"/>
                </a:cubicBezTo>
                <a:cubicBezTo>
                  <a:pt x="18510" y="13697"/>
                  <a:pt x="18493" y="13729"/>
                  <a:pt x="18455" y="13742"/>
                </a:cubicBezTo>
                <a:cubicBezTo>
                  <a:pt x="18429" y="13751"/>
                  <a:pt x="18370" y="13762"/>
                  <a:pt x="18355" y="13791"/>
                </a:cubicBezTo>
                <a:cubicBezTo>
                  <a:pt x="18355" y="13799"/>
                  <a:pt x="18355" y="13808"/>
                  <a:pt x="18355" y="13816"/>
                </a:cubicBezTo>
                <a:cubicBezTo>
                  <a:pt x="18312" y="13827"/>
                  <a:pt x="18290" y="13858"/>
                  <a:pt x="18256" y="13891"/>
                </a:cubicBezTo>
                <a:cubicBezTo>
                  <a:pt x="18219" y="13927"/>
                  <a:pt x="18163" y="13965"/>
                  <a:pt x="18157" y="14015"/>
                </a:cubicBezTo>
                <a:cubicBezTo>
                  <a:pt x="18152" y="14055"/>
                  <a:pt x="18135" y="14080"/>
                  <a:pt x="18107" y="14089"/>
                </a:cubicBezTo>
              </a:path>
              <a:path w="3350" h="1018">
                <a:moveTo>
                  <a:pt x="18827" y="14486"/>
                </a:moveTo>
                <a:cubicBezTo>
                  <a:pt x="18788" y="14486"/>
                  <a:pt x="18889" y="14439"/>
                  <a:pt x="18926" y="14412"/>
                </a:cubicBezTo>
                <a:cubicBezTo>
                  <a:pt x="19078" y="14299"/>
                  <a:pt x="19254" y="14223"/>
                  <a:pt x="19422" y="14139"/>
                </a:cubicBezTo>
                <a:cubicBezTo>
                  <a:pt x="19542" y="14079"/>
                  <a:pt x="19726" y="13989"/>
                  <a:pt x="19869" y="14015"/>
                </a:cubicBezTo>
                <a:cubicBezTo>
                  <a:pt x="19917" y="14038"/>
                  <a:pt x="19931" y="14046"/>
                  <a:pt x="19968" y="14039"/>
                </a:cubicBezTo>
              </a:path>
              <a:path w="3350" h="1018">
                <a:moveTo>
                  <a:pt x="20216" y="13816"/>
                </a:moveTo>
                <a:cubicBezTo>
                  <a:pt x="20196" y="13829"/>
                  <a:pt x="20159" y="13896"/>
                  <a:pt x="20141" y="13940"/>
                </a:cubicBezTo>
                <a:cubicBezTo>
                  <a:pt x="20108" y="14022"/>
                  <a:pt x="20117" y="14102"/>
                  <a:pt x="20117" y="14188"/>
                </a:cubicBezTo>
              </a:path>
              <a:path w="3350" h="1018">
                <a:moveTo>
                  <a:pt x="20563" y="13767"/>
                </a:moveTo>
                <a:cubicBezTo>
                  <a:pt x="20578" y="13760"/>
                  <a:pt x="20682" y="13710"/>
                  <a:pt x="20638" y="13742"/>
                </a:cubicBezTo>
                <a:cubicBezTo>
                  <a:pt x="20604" y="13766"/>
                  <a:pt x="20567" y="13802"/>
                  <a:pt x="20563" y="13841"/>
                </a:cubicBezTo>
                <a:cubicBezTo>
                  <a:pt x="20557" y="13892"/>
                  <a:pt x="20626" y="13921"/>
                  <a:pt x="20662" y="13940"/>
                </a:cubicBezTo>
                <a:cubicBezTo>
                  <a:pt x="20720" y="13971"/>
                  <a:pt x="20785" y="14001"/>
                  <a:pt x="20811" y="14064"/>
                </a:cubicBezTo>
                <a:cubicBezTo>
                  <a:pt x="20811" y="14097"/>
                  <a:pt x="20811" y="14114"/>
                  <a:pt x="20811" y="14139"/>
                </a:cubicBezTo>
                <a:cubicBezTo>
                  <a:pt x="20706" y="14139"/>
                  <a:pt x="20673" y="14141"/>
                  <a:pt x="20588" y="14089"/>
                </a:cubicBezTo>
                <a:cubicBezTo>
                  <a:pt x="20538" y="14064"/>
                  <a:pt x="20522" y="14056"/>
                  <a:pt x="20489" y="14039"/>
                </a:cubicBezTo>
              </a:path>
              <a:path w="3350" h="1018">
                <a:moveTo>
                  <a:pt x="20910" y="13667"/>
                </a:moveTo>
                <a:cubicBezTo>
                  <a:pt x="20910" y="13642"/>
                  <a:pt x="20910" y="13618"/>
                  <a:pt x="20910" y="13593"/>
                </a:cubicBezTo>
                <a:cubicBezTo>
                  <a:pt x="20821" y="13593"/>
                  <a:pt x="20745" y="13582"/>
                  <a:pt x="20662" y="13568"/>
                </a:cubicBezTo>
                <a:cubicBezTo>
                  <a:pt x="20646" y="13568"/>
                  <a:pt x="20629" y="13568"/>
                  <a:pt x="20613" y="13568"/>
                </a:cubicBezTo>
              </a:path>
              <a:path w="3350" h="1018">
                <a:moveTo>
                  <a:pt x="21158" y="13568"/>
                </a:moveTo>
                <a:cubicBezTo>
                  <a:pt x="21194" y="13533"/>
                  <a:pt x="21224" y="13525"/>
                  <a:pt x="21258" y="13494"/>
                </a:cubicBezTo>
                <a:cubicBezTo>
                  <a:pt x="21297" y="13459"/>
                  <a:pt x="21328" y="13469"/>
                  <a:pt x="21382" y="13469"/>
                </a:cubicBezTo>
                <a:cubicBezTo>
                  <a:pt x="21436" y="13469"/>
                  <a:pt x="21472" y="13543"/>
                  <a:pt x="21456" y="13593"/>
                </a:cubicBezTo>
                <a:cubicBezTo>
                  <a:pt x="21436" y="13657"/>
                  <a:pt x="21376" y="13661"/>
                  <a:pt x="21332" y="13643"/>
                </a:cubicBezTo>
                <a:cubicBezTo>
                  <a:pt x="21286" y="13624"/>
                  <a:pt x="21250" y="13592"/>
                  <a:pt x="21208" y="13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02160" y="3232080"/>
            <a:ext cx="250920" cy="196920"/>
          </a:xfrm>
          <a:custGeom>
            <a:avLst/>
            <a:gdLst/>
            <a:ahLst/>
            <a:rect l="l" t="t" r="r" b="b"/>
            <a:pathLst>
              <a:path w="695" h="547">
                <a:moveTo>
                  <a:pt x="15056" y="9178"/>
                </a:moveTo>
                <a:cubicBezTo>
                  <a:pt x="15032" y="9178"/>
                  <a:pt x="15023" y="9178"/>
                  <a:pt x="15007" y="9178"/>
                </a:cubicBezTo>
                <a:cubicBezTo>
                  <a:pt x="15007" y="9125"/>
                  <a:pt x="15018" y="9117"/>
                  <a:pt x="15056" y="9079"/>
                </a:cubicBezTo>
                <a:cubicBezTo>
                  <a:pt x="15106" y="9029"/>
                  <a:pt x="15154" y="9030"/>
                  <a:pt x="15205" y="9004"/>
                </a:cubicBezTo>
                <a:cubicBezTo>
                  <a:pt x="15228" y="8981"/>
                  <a:pt x="15232" y="8973"/>
                  <a:pt x="15255" y="8979"/>
                </a:cubicBezTo>
                <a:cubicBezTo>
                  <a:pt x="15272" y="9001"/>
                  <a:pt x="15299" y="9046"/>
                  <a:pt x="15280" y="9079"/>
                </a:cubicBezTo>
                <a:cubicBezTo>
                  <a:pt x="15258" y="9117"/>
                  <a:pt x="15206" y="9168"/>
                  <a:pt x="15180" y="9203"/>
                </a:cubicBezTo>
                <a:cubicBezTo>
                  <a:pt x="15158" y="9225"/>
                  <a:pt x="15150" y="9230"/>
                  <a:pt x="15156" y="9252"/>
                </a:cubicBezTo>
                <a:cubicBezTo>
                  <a:pt x="15190" y="9279"/>
                  <a:pt x="15235" y="9312"/>
                  <a:pt x="15280" y="9327"/>
                </a:cubicBezTo>
                <a:cubicBezTo>
                  <a:pt x="15330" y="9344"/>
                  <a:pt x="15348" y="9367"/>
                  <a:pt x="15354" y="9426"/>
                </a:cubicBezTo>
                <a:cubicBezTo>
                  <a:pt x="15359" y="9475"/>
                  <a:pt x="15312" y="9486"/>
                  <a:pt x="15280" y="9500"/>
                </a:cubicBezTo>
                <a:cubicBezTo>
                  <a:pt x="15220" y="9526"/>
                  <a:pt x="15220" y="9525"/>
                  <a:pt x="15156" y="9525"/>
                </a:cubicBezTo>
              </a:path>
              <a:path w="695" h="547">
                <a:moveTo>
                  <a:pt x="15453" y="9178"/>
                </a:moveTo>
                <a:cubicBezTo>
                  <a:pt x="15453" y="9132"/>
                  <a:pt x="15447" y="9114"/>
                  <a:pt x="15478" y="9079"/>
                </a:cubicBezTo>
                <a:cubicBezTo>
                  <a:pt x="15502" y="9053"/>
                  <a:pt x="15564" y="9016"/>
                  <a:pt x="15602" y="9029"/>
                </a:cubicBezTo>
                <a:cubicBezTo>
                  <a:pt x="15644" y="9043"/>
                  <a:pt x="15695" y="9141"/>
                  <a:pt x="15701" y="9178"/>
                </a:cubicBezTo>
                <a:cubicBezTo>
                  <a:pt x="15709" y="9225"/>
                  <a:pt x="15724" y="9371"/>
                  <a:pt x="15677" y="9401"/>
                </a:cubicBezTo>
                <a:cubicBezTo>
                  <a:pt x="15618" y="9438"/>
                  <a:pt x="15540" y="9382"/>
                  <a:pt x="15503" y="9351"/>
                </a:cubicBezTo>
                <a:cubicBezTo>
                  <a:pt x="15445" y="9303"/>
                  <a:pt x="15453" y="9246"/>
                  <a:pt x="15453" y="91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05640" y="3160800"/>
            <a:ext cx="53640" cy="63360"/>
          </a:xfrm>
          <a:custGeom>
            <a:avLst/>
            <a:gdLst/>
            <a:ahLst/>
            <a:rect l="l" t="t" r="r" b="b"/>
            <a:pathLst>
              <a:path w="150" h="174">
                <a:moveTo>
                  <a:pt x="15850" y="8855"/>
                </a:moveTo>
                <a:cubicBezTo>
                  <a:pt x="15850" y="8809"/>
                  <a:pt x="15849" y="8787"/>
                  <a:pt x="15900" y="8781"/>
                </a:cubicBezTo>
                <a:cubicBezTo>
                  <a:pt x="15953" y="8775"/>
                  <a:pt x="15986" y="8864"/>
                  <a:pt x="15999" y="8905"/>
                </a:cubicBezTo>
                <a:cubicBezTo>
                  <a:pt x="16015" y="8958"/>
                  <a:pt x="15932" y="8969"/>
                  <a:pt x="15900" y="8954"/>
                </a:cubicBezTo>
                <a:cubicBezTo>
                  <a:pt x="15892" y="8946"/>
                  <a:pt x="15883" y="8938"/>
                  <a:pt x="15875" y="89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GCSE Revision Lesson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s for solving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 on as much information as you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bel each radius (equal leng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bel each right 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n try to cover up parts of the diagrams, trace your fingers over the lines to find shapes you can use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52419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224760" y="534960"/>
            <a:ext cx="222120" cy="196920"/>
          </a:xfrm>
          <a:custGeom>
            <a:avLst/>
            <a:gdLst/>
            <a:ahLst/>
            <a:rect l="l" t="t" r="r" b="b"/>
            <a:pathLst>
              <a:path w="621" h="547">
                <a:moveTo>
                  <a:pt x="17338" y="1984"/>
                </a:moveTo>
                <a:cubicBezTo>
                  <a:pt x="17312" y="2021"/>
                  <a:pt x="17323" y="2023"/>
                  <a:pt x="17289" y="2034"/>
                </a:cubicBezTo>
                <a:cubicBezTo>
                  <a:pt x="17289" y="1953"/>
                  <a:pt x="17303" y="1890"/>
                  <a:pt x="17314" y="1811"/>
                </a:cubicBezTo>
                <a:cubicBezTo>
                  <a:pt x="17326" y="1729"/>
                  <a:pt x="17346" y="1637"/>
                  <a:pt x="17388" y="1563"/>
                </a:cubicBezTo>
                <a:cubicBezTo>
                  <a:pt x="17408" y="1528"/>
                  <a:pt x="17428" y="1527"/>
                  <a:pt x="17438" y="1488"/>
                </a:cubicBezTo>
                <a:cubicBezTo>
                  <a:pt x="17465" y="1534"/>
                  <a:pt x="17481" y="1630"/>
                  <a:pt x="17487" y="1687"/>
                </a:cubicBezTo>
                <a:cubicBezTo>
                  <a:pt x="17497" y="1786"/>
                  <a:pt x="17503" y="1868"/>
                  <a:pt x="17537" y="1960"/>
                </a:cubicBezTo>
              </a:path>
              <a:path w="621" h="547">
                <a:moveTo>
                  <a:pt x="17537" y="1860"/>
                </a:moveTo>
                <a:cubicBezTo>
                  <a:pt x="17506" y="1785"/>
                  <a:pt x="17515" y="1761"/>
                  <a:pt x="17438" y="1761"/>
                </a:cubicBezTo>
                <a:cubicBezTo>
                  <a:pt x="17377" y="1761"/>
                  <a:pt x="17364" y="1773"/>
                  <a:pt x="17314" y="1786"/>
                </a:cubicBezTo>
              </a:path>
              <a:path w="621" h="547">
                <a:moveTo>
                  <a:pt x="17636" y="1687"/>
                </a:moveTo>
                <a:cubicBezTo>
                  <a:pt x="17676" y="1739"/>
                  <a:pt x="17644" y="1774"/>
                  <a:pt x="17661" y="1836"/>
                </a:cubicBezTo>
                <a:cubicBezTo>
                  <a:pt x="17676" y="1889"/>
                  <a:pt x="17686" y="1905"/>
                  <a:pt x="17686" y="1960"/>
                </a:cubicBezTo>
              </a:path>
              <a:path w="621" h="547">
                <a:moveTo>
                  <a:pt x="17661" y="1662"/>
                </a:moveTo>
                <a:cubicBezTo>
                  <a:pt x="17661" y="1616"/>
                  <a:pt x="17655" y="1598"/>
                  <a:pt x="17686" y="1563"/>
                </a:cubicBezTo>
                <a:cubicBezTo>
                  <a:pt x="17705" y="1541"/>
                  <a:pt x="17779" y="1502"/>
                  <a:pt x="17810" y="1488"/>
                </a:cubicBezTo>
                <a:cubicBezTo>
                  <a:pt x="17835" y="1488"/>
                  <a:pt x="17843" y="1488"/>
                  <a:pt x="17859" y="1488"/>
                </a:cubicBezTo>
                <a:cubicBezTo>
                  <a:pt x="17859" y="1569"/>
                  <a:pt x="17836" y="1528"/>
                  <a:pt x="17810" y="1588"/>
                </a:cubicBezTo>
                <a:cubicBezTo>
                  <a:pt x="17782" y="1653"/>
                  <a:pt x="17740" y="1712"/>
                  <a:pt x="17785" y="1786"/>
                </a:cubicBezTo>
                <a:cubicBezTo>
                  <a:pt x="17818" y="1840"/>
                  <a:pt x="17904" y="1869"/>
                  <a:pt x="17909" y="1935"/>
                </a:cubicBezTo>
                <a:cubicBezTo>
                  <a:pt x="17915" y="2017"/>
                  <a:pt x="17876" y="2009"/>
                  <a:pt x="17810" y="2009"/>
                </a:cubicBezTo>
                <a:cubicBezTo>
                  <a:pt x="17802" y="2009"/>
                  <a:pt x="17793" y="2009"/>
                  <a:pt x="17785" y="20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89800" y="615960"/>
            <a:ext cx="63360" cy="46080"/>
          </a:xfrm>
          <a:custGeom>
            <a:avLst/>
            <a:gdLst/>
            <a:ahLst/>
            <a:rect l="l" t="t" r="r" b="b"/>
            <a:pathLst>
              <a:path w="174" h="125">
                <a:moveTo>
                  <a:pt x="18455" y="1712"/>
                </a:moveTo>
                <a:cubicBezTo>
                  <a:pt x="18463" y="1712"/>
                  <a:pt x="18471" y="1712"/>
                  <a:pt x="18479" y="1712"/>
                </a:cubicBezTo>
                <a:cubicBezTo>
                  <a:pt x="18423" y="1712"/>
                  <a:pt x="18322" y="1691"/>
                  <a:pt x="18306" y="1736"/>
                </a:cubicBezTo>
              </a:path>
              <a:path w="174" h="125">
                <a:moveTo>
                  <a:pt x="18405" y="1811"/>
                </a:moveTo>
                <a:cubicBezTo>
                  <a:pt x="18413" y="1811"/>
                  <a:pt x="18422" y="1811"/>
                  <a:pt x="18430" y="1811"/>
                </a:cubicBezTo>
                <a:cubicBezTo>
                  <a:pt x="18417" y="1849"/>
                  <a:pt x="18400" y="1836"/>
                  <a:pt x="18355" y="1836"/>
                </a:cubicBezTo>
                <a:cubicBezTo>
                  <a:pt x="18347" y="1836"/>
                  <a:pt x="18339" y="1836"/>
                  <a:pt x="18331" y="18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581040"/>
            <a:ext cx="304920" cy="169920"/>
          </a:xfrm>
          <a:custGeom>
            <a:avLst/>
            <a:gdLst/>
            <a:ahLst/>
            <a:rect l="l" t="t" r="r" b="b"/>
            <a:pathLst>
              <a:path w="845" h="473">
                <a:moveTo>
                  <a:pt x="18926" y="2034"/>
                </a:moveTo>
                <a:cubicBezTo>
                  <a:pt x="18918" y="2042"/>
                  <a:pt x="18909" y="2051"/>
                  <a:pt x="18901" y="2059"/>
                </a:cubicBezTo>
                <a:cubicBezTo>
                  <a:pt x="18913" y="2010"/>
                  <a:pt x="18914" y="1964"/>
                  <a:pt x="18926" y="1910"/>
                </a:cubicBezTo>
                <a:cubicBezTo>
                  <a:pt x="18942" y="1835"/>
                  <a:pt x="18946" y="1729"/>
                  <a:pt x="18976" y="1662"/>
                </a:cubicBezTo>
                <a:cubicBezTo>
                  <a:pt x="18984" y="1654"/>
                  <a:pt x="18992" y="1645"/>
                  <a:pt x="19000" y="1637"/>
                </a:cubicBezTo>
                <a:cubicBezTo>
                  <a:pt x="19057" y="1651"/>
                  <a:pt x="19049" y="1682"/>
                  <a:pt x="19075" y="1736"/>
                </a:cubicBezTo>
                <a:cubicBezTo>
                  <a:pt x="19117" y="1824"/>
                  <a:pt x="19137" y="1919"/>
                  <a:pt x="19174" y="2009"/>
                </a:cubicBezTo>
                <a:cubicBezTo>
                  <a:pt x="19194" y="2050"/>
                  <a:pt x="19203" y="2056"/>
                  <a:pt x="19199" y="2084"/>
                </a:cubicBezTo>
              </a:path>
              <a:path w="845" h="473">
                <a:moveTo>
                  <a:pt x="19199" y="2034"/>
                </a:moveTo>
                <a:cubicBezTo>
                  <a:pt x="19165" y="1975"/>
                  <a:pt x="19166" y="1960"/>
                  <a:pt x="19100" y="1960"/>
                </a:cubicBezTo>
                <a:cubicBezTo>
                  <a:pt x="19067" y="1960"/>
                  <a:pt x="19033" y="1960"/>
                  <a:pt x="19000" y="1960"/>
                </a:cubicBezTo>
              </a:path>
              <a:path w="845" h="473">
                <a:moveTo>
                  <a:pt x="19472" y="1637"/>
                </a:moveTo>
                <a:cubicBezTo>
                  <a:pt x="19516" y="1637"/>
                  <a:pt x="19530" y="1640"/>
                  <a:pt x="19546" y="1612"/>
                </a:cubicBezTo>
                <a:cubicBezTo>
                  <a:pt x="19535" y="1658"/>
                  <a:pt x="19496" y="1690"/>
                  <a:pt x="19472" y="1736"/>
                </a:cubicBezTo>
                <a:cubicBezTo>
                  <a:pt x="19422" y="1830"/>
                  <a:pt x="19413" y="1890"/>
                  <a:pt x="19472" y="1984"/>
                </a:cubicBezTo>
                <a:cubicBezTo>
                  <a:pt x="19502" y="2032"/>
                  <a:pt x="19593" y="2054"/>
                  <a:pt x="19645" y="2034"/>
                </a:cubicBezTo>
                <a:cubicBezTo>
                  <a:pt x="19680" y="2021"/>
                  <a:pt x="19703" y="1992"/>
                  <a:pt x="19745" y="19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5120" y="652320"/>
            <a:ext cx="54000" cy="540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20191" y="1811"/>
                </a:moveTo>
                <a:cubicBezTo>
                  <a:pt x="20141" y="1811"/>
                  <a:pt x="20092" y="1811"/>
                  <a:pt x="20042" y="1811"/>
                </a:cubicBezTo>
              </a:path>
              <a:path w="150" h="150">
                <a:moveTo>
                  <a:pt x="20141" y="1910"/>
                </a:moveTo>
                <a:cubicBezTo>
                  <a:pt x="20141" y="1918"/>
                  <a:pt x="20141" y="1927"/>
                  <a:pt x="20141" y="1935"/>
                </a:cubicBezTo>
                <a:cubicBezTo>
                  <a:pt x="20102" y="1945"/>
                  <a:pt x="20087" y="1960"/>
                  <a:pt x="20042" y="19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67760" y="588960"/>
            <a:ext cx="79200" cy="135000"/>
          </a:xfrm>
          <a:custGeom>
            <a:avLst/>
            <a:gdLst/>
            <a:ahLst/>
            <a:rect l="l" t="t" r="r" b="b"/>
            <a:pathLst>
              <a:path w="224" h="373">
                <a:moveTo>
                  <a:pt x="20638" y="1662"/>
                </a:moveTo>
                <a:cubicBezTo>
                  <a:pt x="20631" y="1640"/>
                  <a:pt x="20599" y="1617"/>
                  <a:pt x="20563" y="1637"/>
                </a:cubicBezTo>
                <a:cubicBezTo>
                  <a:pt x="20519" y="1661"/>
                  <a:pt x="20474" y="1740"/>
                  <a:pt x="20464" y="1786"/>
                </a:cubicBezTo>
                <a:cubicBezTo>
                  <a:pt x="20451" y="1844"/>
                  <a:pt x="20505" y="1937"/>
                  <a:pt x="20538" y="1984"/>
                </a:cubicBezTo>
                <a:cubicBezTo>
                  <a:pt x="20589" y="2057"/>
                  <a:pt x="20633" y="1995"/>
                  <a:pt x="20662" y="1960"/>
                </a:cubicBezTo>
                <a:cubicBezTo>
                  <a:pt x="20670" y="1952"/>
                  <a:pt x="20679" y="1943"/>
                  <a:pt x="20687" y="19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45240" y="554040"/>
            <a:ext cx="108000" cy="160200"/>
          </a:xfrm>
          <a:custGeom>
            <a:avLst/>
            <a:gdLst/>
            <a:ahLst/>
            <a:rect l="l" t="t" r="r" b="b"/>
            <a:pathLst>
              <a:path w="299" h="447">
                <a:moveTo>
                  <a:pt x="21258" y="1563"/>
                </a:moveTo>
                <a:cubicBezTo>
                  <a:pt x="21243" y="1518"/>
                  <a:pt x="21197" y="1531"/>
                  <a:pt x="21158" y="1563"/>
                </a:cubicBezTo>
                <a:cubicBezTo>
                  <a:pt x="21127" y="1588"/>
                  <a:pt x="21080" y="1629"/>
                  <a:pt x="21059" y="1662"/>
                </a:cubicBezTo>
                <a:cubicBezTo>
                  <a:pt x="21029" y="1708"/>
                  <a:pt x="20998" y="1758"/>
                  <a:pt x="20985" y="1811"/>
                </a:cubicBezTo>
                <a:cubicBezTo>
                  <a:pt x="20980" y="1831"/>
                  <a:pt x="20955" y="1924"/>
                  <a:pt x="20960" y="1935"/>
                </a:cubicBezTo>
                <a:cubicBezTo>
                  <a:pt x="20984" y="1990"/>
                  <a:pt x="21036" y="1984"/>
                  <a:pt x="21084" y="1984"/>
                </a:cubicBezTo>
                <a:cubicBezTo>
                  <a:pt x="21129" y="1984"/>
                  <a:pt x="21143" y="1964"/>
                  <a:pt x="21183" y="1960"/>
                </a:cubicBezTo>
                <a:cubicBezTo>
                  <a:pt x="21224" y="1956"/>
                  <a:pt x="21248" y="1939"/>
                  <a:pt x="21258" y="1910"/>
                </a:cubicBezTo>
              </a:path>
              <a:path w="299" h="447">
                <a:moveTo>
                  <a:pt x="21233" y="1786"/>
                </a:moveTo>
                <a:cubicBezTo>
                  <a:pt x="21142" y="1786"/>
                  <a:pt x="21051" y="1786"/>
                  <a:pt x="20960" y="17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0:42:02Z</dcterms:created>
  <dc:creator>N Holden</dc:creator>
  <dc:description/>
  <dc:language>en-US</dc:language>
  <cp:lastModifiedBy>N Holden</cp:lastModifiedBy>
  <dcterms:modified xsi:type="dcterms:W3CDTF">2009-03-20T18:51:28Z</dcterms:modified>
  <cp:revision>4</cp:revision>
  <dc:subject/>
  <dc:title>IGCSE Revision Lesson 11</dc:title>
</cp:coreProperties>
</file>